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07C6-3D03-4B56-BE6F-31B12DA17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EC18-5B91-469A-BA5E-9C618CA991FC}" type="slidenum">
              <a:rPr b="0" lang="en-GB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Revision for the Boom in the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B62-000F-4719-9E0D-A2A0EF3C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A922-62CE-4E0C-AF75-92530246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B22-2E1C-4143-B765-2508552A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6EE-1D9C-411E-B002-CF0B514C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41B6-1F09-4357-9790-9817432F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6695-5841-4B70-A502-76DD5AD6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D08C-50D2-4E45-A73F-2F44121C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62F9-7029-4923-9C8D-4DEA7890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5C3-E4D5-44CA-BCAA-7E4E3AF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79D-F595-4541-8B4E-39D7580D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68D8-0D35-48CB-B492-C7AC7E8E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2C63-FF7C-43DA-8E5B-C5DF840B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35D7-6498-420A-A99D-491471A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E7FE-A486-4D5A-A3B1-8FDB59F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094D-8B56-4853-B7D1-CB191487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7D71-FD81-48F9-8EEC-975FCB5D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F19-F846-40AA-BC48-624E0FC6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A35C-F9A5-409A-82CC-EEABCC3F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C1F-7A32-4CCF-B5A2-3BE6B605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F3C5-4DDF-4A30-B5F3-014A0087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869-8563-45A6-BDDD-A49042FA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7FC-6D5A-4A7C-92BC-D81C3801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15D8-9FEB-4FA1-B906-EE80787F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F7E-1565-469D-94B7-3A84B160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4B4B-C33E-4250-91BD-85935CDA5AC4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2C4A-8831-453D-9D10-27B3DA82CCB6}" type="slidenum">
              <a:rPr b="0" lang="en-GB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1960" y="9903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bd189"/>
                </a:solidFill>
                <a:latin typeface="Times New Roman"/>
              </a:rPr>
              <a:t>Nazi Germany</a:t>
            </a:r>
            <a:endParaRPr b="0" lang="en-US" sz="6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90360" y="26668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eaeaea"/>
                </a:solidFill>
                <a:latin typeface="Times New Roman"/>
              </a:rPr>
              <a:t>Putting Germany back to Work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895480" y="4800600"/>
            <a:ext cx="396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By Mr RJ Huggins</a:t>
            </a:r>
            <a:br>
              <a:rPr sz="2400"/>
            </a:b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www.SchoolHistory.co.uk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The Car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40" name="Picture 3" descr="A:\BEATLE.JPG"/>
          <p:cNvPicPr/>
          <p:nvPr/>
        </p:nvPicPr>
        <p:blipFill>
          <a:blip r:embed="rId1"/>
          <a:stretch/>
        </p:blipFill>
        <p:spPr>
          <a:xfrm>
            <a:off x="1066680" y="1523880"/>
            <a:ext cx="784872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06668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Recognise the design of this German Jeep called a Kubelwagen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Cloud"/>
          <p:cNvSpPr/>
          <p:nvPr/>
        </p:nvSpPr>
        <p:spPr>
          <a:xfrm>
            <a:off x="3733920" y="2819520"/>
            <a:ext cx="2361960" cy="1582560"/>
          </a:xfrm>
          <a:custGeom>
            <a:avLst/>
            <a:gdLst>
              <a:gd name="textAreaLeft" fmla="*/ 325440 w 2361960"/>
              <a:gd name="textAreaRight" fmla="*/ 1868400 w 2361960"/>
              <a:gd name="textAreaTop" fmla="*/ 239040 h 1582560"/>
              <a:gd name="textAreaBottom" fmla="*/ 1270440 h 15825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038480" y="3352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ar Industr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477120" y="4572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Created Jobs in other industries because of the need for standardised parts.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066680" y="50292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Car Production could easily be switched to the production of military vehicle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066680" y="53352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Produced low cost cars which helped to keep the German people happ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16292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Ste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708660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Glass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70102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Rubb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010280" y="5334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 Narrow"/>
              </a:rPr>
              <a:t>Leather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1" name="Line 11"/>
          <p:cNvSpPr/>
          <p:nvPr/>
        </p:nvSpPr>
        <p:spPr>
          <a:xfrm flipH="1">
            <a:off x="2895120" y="4114800"/>
            <a:ext cx="114300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2" name="Line 12"/>
          <p:cNvSpPr/>
          <p:nvPr/>
        </p:nvSpPr>
        <p:spPr>
          <a:xfrm flipH="1" flipV="1">
            <a:off x="3352320" y="1904760"/>
            <a:ext cx="76212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3" name="Line 13"/>
          <p:cNvSpPr/>
          <p:nvPr/>
        </p:nvSpPr>
        <p:spPr>
          <a:xfrm flipV="1">
            <a:off x="5562720" y="1447920"/>
            <a:ext cx="1066680" cy="1371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7543800" y="22860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5" name="Line 16"/>
          <p:cNvSpPr/>
          <p:nvPr/>
        </p:nvSpPr>
        <p:spPr>
          <a:xfrm>
            <a:off x="7543800" y="327672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6" name="Line 17"/>
          <p:cNvSpPr/>
          <p:nvPr/>
        </p:nvSpPr>
        <p:spPr>
          <a:xfrm>
            <a:off x="7543800" y="4114800"/>
            <a:ext cx="0" cy="3808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7" name="Line 20"/>
          <p:cNvSpPr/>
          <p:nvPr/>
        </p:nvSpPr>
        <p:spPr>
          <a:xfrm>
            <a:off x="7543800" y="495288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7543800" y="57150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324480" y="61722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Cycle of Prosperity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0" name="Line 23"/>
          <p:cNvSpPr/>
          <p:nvPr/>
        </p:nvSpPr>
        <p:spPr>
          <a:xfrm flipH="1" flipV="1">
            <a:off x="5638320" y="4495320"/>
            <a:ext cx="762120" cy="1676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d189"/>
                </a:solidFill>
                <a:latin typeface="Times New Roman"/>
              </a:rPr>
              <a:t>What other measures did Hitler introduce in order to reduce unemployment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y 1934 all Jews were sacked from civil service jobs which were then given to German worke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Unemployed Jews were not register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Women lost their jobs which were given to me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People who refused jobs offered by the labour service were arrested and put into concentration camp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GCSE Past Paper Question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28840" y="14479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cording to this cartoon what was the basis of German prosperit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hat happens to people who refuse to take the jobs offered by the Nazi government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Who benefited from these changes to the German economy? Why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7" descr="C:\My Documents\My Pictures\20thC\Hitler\CARTOON.JPG"/>
          <p:cNvPicPr/>
          <p:nvPr/>
        </p:nvPicPr>
        <p:blipFill>
          <a:blip r:embed="rId1"/>
          <a:stretch/>
        </p:blipFill>
        <p:spPr>
          <a:xfrm>
            <a:off x="1066680" y="1447920"/>
            <a:ext cx="3703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Arial"/>
              </a:rPr>
              <a:t>Credit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219320" y="19051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lease e-mail reviews to hugy@sfe.co.uk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43000" y="2819520"/>
            <a:ext cx="7238880" cy="19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lease feel free to share any resources that will help support others in the classroom.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Times New Roman"/>
              </a:rPr>
              <a:t>Downloaded from www.SchoolHistory.co.uk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The Situation in 1929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Germany relied on American money under the Dawes Plan to be able to pay for the Reparation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When the American Stock Market crash on Wall Street, the USA stopped lending money to Germany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German economy went into rec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3581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Germany 1933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38120" y="1523880"/>
            <a:ext cx="4876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y January 1933, unemployment  had reached 6,000,000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No one would loan Germany the Weimar Government couldn’t do anything to help the unemploy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itler was elected on a promise to give the German people ‘Bread &amp; Jobs.’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Picture 6" descr="C:\My Documents\My Pictures\20thC\Hitler\POSTER.JPG"/>
          <p:cNvPicPr/>
          <p:nvPr/>
        </p:nvPicPr>
        <p:blipFill>
          <a:blip r:embed="rId1"/>
          <a:stretch/>
        </p:blipFill>
        <p:spPr>
          <a:xfrm>
            <a:off x="990720" y="1447920"/>
            <a:ext cx="29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d189"/>
                </a:solidFill>
                <a:latin typeface="Times New Roman"/>
              </a:rPr>
              <a:t>Impact of Hitler’s Policies on Unemployment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990720" y="1523880"/>
          <a:ext cx="77724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7724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bd189"/>
                </a:solidFill>
                <a:latin typeface="Times New Roman"/>
              </a:rPr>
              <a:t>How did Hitler put Germany back to work?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20" name="Picture 3" descr="C:\My Documents\My Pictures\20thC\Hitler\JOBS.JPG"/>
          <p:cNvPicPr/>
          <p:nvPr/>
        </p:nvPicPr>
        <p:blipFill>
          <a:blip r:embed="rId1"/>
          <a:stretch/>
        </p:blipFill>
        <p:spPr>
          <a:xfrm>
            <a:off x="1143000" y="1371600"/>
            <a:ext cx="739152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bd189"/>
                </a:solidFill>
                <a:latin typeface="Times New Roman"/>
              </a:rPr>
              <a:t>RAD – The National Labour Service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1640" y="13716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ave men jobs in public work sche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en in RAD had to wear a uniform &amp; live in camp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y were given free meals and pocket mone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Built: drainage ditches, schools, a new network of motorways and planted new forest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" name="Picture 6" descr="C:\My Documents\My Pictures\20thC\Hitler\Rad.jpg"/>
          <p:cNvPicPr/>
          <p:nvPr/>
        </p:nvPicPr>
        <p:blipFill>
          <a:blip r:embed="rId1"/>
          <a:stretch/>
        </p:blipFill>
        <p:spPr>
          <a:xfrm>
            <a:off x="1066680" y="1447920"/>
            <a:ext cx="3251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loud"/>
          <p:cNvSpPr/>
          <p:nvPr/>
        </p:nvSpPr>
        <p:spPr>
          <a:xfrm>
            <a:off x="3124080" y="2362320"/>
            <a:ext cx="3124440" cy="2093760"/>
          </a:xfrm>
          <a:custGeom>
            <a:avLst/>
            <a:gdLst>
              <a:gd name="textAreaLeft" fmla="*/ 430560 w 3124440"/>
              <a:gd name="textAreaRight" fmla="*/ 2471760 w 3124440"/>
              <a:gd name="textAreaTop" fmla="*/ 316080 h 2093760"/>
              <a:gd name="textAreaBottom" fmla="*/ 1680480 h 2093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Text Box 1029"/>
          <p:cNvSpPr/>
          <p:nvPr/>
        </p:nvSpPr>
        <p:spPr>
          <a:xfrm>
            <a:off x="3505320" y="27432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What was the aim of Hitler’s Public Works Programme?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Text Box 1030"/>
          <p:cNvSpPr/>
          <p:nvPr/>
        </p:nvSpPr>
        <p:spPr>
          <a:xfrm>
            <a:off x="6400800" y="53352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Kick start the Cycle of Prosperity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Text Box 1032"/>
          <p:cNvSpPr/>
          <p:nvPr/>
        </p:nvSpPr>
        <p:spPr>
          <a:xfrm>
            <a:off x="5791320" y="495288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improve the public transport network for industrial &amp; military us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Text Box 1034"/>
          <p:cNvSpPr/>
          <p:nvPr/>
        </p:nvSpPr>
        <p:spPr>
          <a:xfrm>
            <a:off x="914400" y="45720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improve the living conditions of the German people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9" name="Text Box 1035"/>
          <p:cNvSpPr/>
          <p:nvPr/>
        </p:nvSpPr>
        <p:spPr>
          <a:xfrm>
            <a:off x="914400" y="4800600"/>
            <a:ext cx="29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 Narrow"/>
              </a:rPr>
              <a:t>To build impressive buildings so that the German people would feel proud 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Line 1036"/>
          <p:cNvSpPr/>
          <p:nvPr/>
        </p:nvSpPr>
        <p:spPr>
          <a:xfrm flipV="1">
            <a:off x="5791320" y="1294920"/>
            <a:ext cx="106668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1" name="Line 1037"/>
          <p:cNvSpPr/>
          <p:nvPr/>
        </p:nvSpPr>
        <p:spPr>
          <a:xfrm>
            <a:off x="6095880" y="3733920"/>
            <a:ext cx="838440" cy="1143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2" name="Line 1038"/>
          <p:cNvSpPr/>
          <p:nvPr/>
        </p:nvSpPr>
        <p:spPr>
          <a:xfrm flipH="1">
            <a:off x="2590560" y="3962520"/>
            <a:ext cx="60948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3" name="Line 1040"/>
          <p:cNvSpPr/>
          <p:nvPr/>
        </p:nvSpPr>
        <p:spPr>
          <a:xfrm flipH="1" flipV="1">
            <a:off x="2590920" y="1828800"/>
            <a:ext cx="91440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189"/>
                </a:solidFill>
                <a:latin typeface="Times New Roman"/>
              </a:rPr>
              <a:t>Autarky – National Self Sufficiency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itler wanted to Germany a strong  independent country that was sufficient in food and materi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ermany had lost the FWW because it had run out of food and war material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German scientist developed all sorts of artificial substitutes such as petrol from coal and coffee from acorn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se new substitutes were made in Germany and gave the unemployed jobs in new indust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itler also encouraged the growth of the car industr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189"/>
                </a:solidFill>
                <a:latin typeface="Times New Roman"/>
              </a:rPr>
              <a:t>The Car Indust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54097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by Porsche and nicked named ‘The Peoples Car’, known today as the ……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8" descr="http://www.doc.eng.cmu.ac.th/course/cpe202/public_html/sec2/group8/Vint0073.jpg"/>
          <p:cNvPicPr/>
          <p:nvPr/>
        </p:nvPicPr>
        <p:blipFill>
          <a:blip r:embed="rId1"/>
          <a:stretch/>
        </p:blipFill>
        <p:spPr>
          <a:xfrm>
            <a:off x="1905120" y="1447920"/>
            <a:ext cx="518148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6T13:04:07Z</dcterms:created>
  <dc:creator>User</dc:creator>
  <dc:description/>
  <dc:language>en-US</dc:language>
  <cp:lastModifiedBy>.</cp:lastModifiedBy>
  <dcterms:modified xsi:type="dcterms:W3CDTF">2010-03-12T08:18:39Z</dcterms:modified>
  <cp:revision>15</cp:revision>
  <dc:subject/>
  <dc:title>Nazi Germany</dc:title>
</cp:coreProperties>
</file>